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8A3-9F0B-4A46-81AC-2B2D7F10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059-6C1B-4871-BFE0-372ECC1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15E-2DDF-4AC9-A4D0-134D59D4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E25-B49C-42DF-AB99-1E58F633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B7FB5-3081-4643-B056-053B9675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2248D-88CC-4D3F-81C3-B220AE0F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09904-B8F6-4DE8-B3C7-FCF5AF0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A9D71-78CF-4965-BC1C-4B7E088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24D0-B862-475F-A331-B4FD1F6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DADF0-D679-4C3F-8187-39777B9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E4670-2785-4B69-8A83-3E48AB1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E39-188B-41AF-B4D7-D5CA9F4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F0FF3-B1D0-4ACF-993B-7AD915C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4E1F-23C4-4249-8173-C2D17BC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33B2E-E049-4DEC-BDDD-1F0E5A04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DCCA9-23A0-494A-8DC5-13E05F89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8A1B-1BCC-4ACF-94CC-47974691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44F-990C-4384-B36F-F4D43C8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6EE-86B6-4401-AF83-59C678A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A7C-070B-4BA4-ADD9-2990AC1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B96-4B69-452C-8949-7587D44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4A3-5FC2-41BE-B50B-B0B4262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E4-ABB6-4B50-8943-626B91E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B03-EB89-4B1F-9DAF-77D96F8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EE15-8941-4A9B-BA31-7F0DBEF97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FE2-8318-4031-BB05-84DB1AE307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 PART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70400" y="6095880"/>
            <a:ext cx="78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  <a:ea typeface="Arial"/>
              </a:rPr>
              <a:t>What was virtual representation?  All members of Parliament repres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  <a:ea typeface="Arial"/>
              </a:rPr>
              <a:t>all British su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y is this important in the long run? Rules for territories and st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ll of Rights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rotect who from what?) people from too strong of a gover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 of the Constitution (strict vs. loose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ssumption, National Bank, (challenge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ormation of two-party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acteristics of a Federali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? Loose interpre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oreign relations? Favored Britain over Franc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Marbury v. Madison establishes the principle of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Comic Sans MS"/>
              </a:rPr>
              <a:t>Judicial review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 –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auses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o support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outh/We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o doesn’t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Goal? Protect American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omponent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Protect/promote busine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rnal improvem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ational Bank/Tariff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a of Good Feel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Purpose of the name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 political opposi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rrupt Bargai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Why named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Clay = Sec of Stat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houn authors “The Exposition” – VP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argument for?) state’s righ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return to the ideals of?) Jeffers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ver what?) tariff polic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oostook War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 vs. who?) Maine vs. Canada over border dispu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 is this?) God given right to expan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y did it take so long for Texas to be a state?) controversy of expansion of slaver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llpox and the start of slavery leads to…….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eaths of millions of N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w global economic system Europe has everyth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UT? Raw Materi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y of Guadalupe Hidalg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who got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New Mexico, California to US for $15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Rio Grande border of Tex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mot Provis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purpose?) no slavery in territories acquired in war with Mex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stend Manifest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?) secret offer to buy Cuba from Spa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best example of?) Manifest Desti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sets the foundation for?) social refor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y persecuted?) emphasis on community and cooperative eff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topian commun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desire for?) social, religious or economic perf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urpose?) expand rights of women until Civil War (switch to abolitio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lt of domesticit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, what?) glorified traditional role of women as wives and moth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ah Webster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contribution?) standardized American langu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race Mann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goal of public education?) create informed citize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conditions?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lifornia in as free s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ronger fugitive slave la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Utah and NM open to ‘popular sovereignty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 slave trade in Washington, D.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gitive Slave La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Northern response?) Increased abolition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o, what, importance?) Intended to show cruelty of slav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xample of?) popular sovereignty (let territory residents decide whether to allow slaver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reates increased northern opposition to slav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reates birth of Republican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pands violence in Kan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 nativ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ed Scott Decision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laves not citizens, and Congress can’t regulate expansion of sla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ublican Par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 no expansion of sla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ession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vent?)1860 election of Lincol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aring North &amp; South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advantages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rth:  RR, Industry, Navy, Larger popul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outh:  Better generals, moral cause, defense of homela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eign involve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goals?)  weak America better for Britain and Fr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mancipation Proclamati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purpose?), strengthen Union moral cau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Pl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ncol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10% Plan = rapid readmission of Southern sta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de-Dav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ajor difference between Congress and Presidents concerning Reconstruc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itutional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Status of confederate st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Amendments (13,14,1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13 = no slavery, 14 = rights of citizens, 15 = right to vote all ma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 of Reconstruc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 Compromise of 187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Wes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a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nd of the Buffalo = end of Indian way of li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ssimil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ttlers / Farm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mestead Act = promote settl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arb wire = end of open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armers produce for outside 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R exploiting farm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dustry and Urbaniz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y terms/events/people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rizontal integ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rtical integ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darwin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inese Exclusion 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state Commerce Com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ndleton 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im Crow law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Jamestown – 1607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irst successful settlement**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Joint-stock company: a group of investors who bought the right to establish New World plantations from the k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New England Indian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was this last War called?) King Philips W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(change church from within ) form larger colony in 1629 (better funded &amp; prepar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Roger Williams banished (creates Rhode Islan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wo big things about 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ligious freedom for a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Very Democrat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belief that those predestined need not obey secular law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ty Upon a Hill – John Winthro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rican exceptionalism is the idea that the United States and the American people hold a special place in the world, by offering opportunity and hope for humanity, derived from a unique balance of public and private interests governed by constitutional ideals that are focused on personal and economic freedo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rimary source of labor until Bacon’s rebellion (why did they rebel?) poor land, no opportun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fter Bacon, viewed as a less troublesome labor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Legal in all colonies by 17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is this?) Gain power through gold/silve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how did the British government enforce?) Navigation Acts to control shipp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nch Indian War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fought for control over?) Ohio Valle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bany Pla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purpose?) colonial unity and common defen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eaty of Paris 1763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outcome for France?) No territory in North Amer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lamation of 1763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angers the colonists – why?) prohibits colonial settlement west of the Appalachian Mounta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13-01-13T20:51:04Z</dcterms:modified>
  <cp:revision>104</cp:revision>
  <dc:subject/>
  <dc:title>PowerPoint Presentation</dc:title>
</cp:coreProperties>
</file>